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8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E56-AA1A-45AC-A742-201DEE85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B10-2C82-4B1B-B82B-19E2D83C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B36E0-8630-47F0-A70C-5EB07FE9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C43F5-1D50-4008-9578-D2FE68A5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6E908-EE12-4FA6-8AC6-F39FDC29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0BD51-B7AD-43B8-9553-C792BAB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9B33E-1EEC-4D24-9EAD-4ED40A73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8AC8B-4CD4-41A3-8250-2F3DCFB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43616-47A7-4DAB-ACF2-4DD4FF0F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6CD58-159F-43EC-B260-B6DEEF26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4D99A-AD5A-4175-BA82-8FF6BF02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782-AF45-4BE9-B83C-CDDBF91A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371-2A8A-4119-8215-5A798560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14A8-93B6-432D-8E74-463FF964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BC80-307A-4B2F-B772-B859E390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9690-BCA6-4648-8D6D-5D5FFABC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D553-DCAD-4528-81EE-F6E3252D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A307-F415-46DB-8263-DC76E167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57AD-41E9-46FA-A70E-95822A66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F452-856F-42FB-A118-4F46F211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B23-7518-4D2C-8074-C5E4EFEA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58FB-3E0D-4D75-AC3A-4CE49E30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26F4-5C24-42B1-AFC0-BD12876C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B283-60FD-4F42-8D6F-9B42D45C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FDBC-3F84-47DC-8F37-9A7E795C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60CF-29D6-4FC9-80CB-91C1CDC2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DCD8-27D0-4F21-AD35-8A532C80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6F323-61F6-4E2D-80EA-B3AB9186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6F2E-D9E8-4086-BE55-89D9E24F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B0FE-C38F-49FA-B4D3-CA2BB37B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A4E9-C488-42F0-A8AC-E8E1FFA4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22A-7105-467F-B1C0-C8AECB9B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4C0B-AD41-40D8-B669-B55C8C8A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89D65-1848-419E-961F-B3F7DAF4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12C6-EC70-4719-95CB-EA086A7E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F967-9FA4-4B42-9372-BFD3525D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3FC5-E3BA-4335-83B4-F1D114AB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B043-CB59-4CDF-AB95-4A2FDA4A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8E48B-D122-46F9-B6F4-79B4745E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B23E-7896-41D3-8B88-6F36165D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F6E6-B8DC-4DB9-A5DF-96B9A91D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AE994-73FD-4E5F-9E52-B57DE15A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89D-9862-4AB0-B905-C79907CE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ADCD-F35D-4D53-8D41-F2096EE2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649F3-E621-4E24-9875-2A044520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76735-DD14-470E-A474-6DE8F031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3E4D-9A8F-41DC-A126-9D6DF27A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A49FA-918A-44E9-B22C-927D23BD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24201-5736-4D70-876A-1FBC4FF7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1035-2735-4D4A-8877-B5D5CC32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A263-38EB-4AC3-BE71-311797AD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EC860-9556-4224-A2E1-220B4499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E42E2-FF38-4036-9B9F-71414BC2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53B-72E5-4EB7-AA99-A773D8ED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079B-C09A-4201-8330-A2F17D77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750D4-0BC2-4769-9244-C294E193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0D76E-D139-42A9-88D7-B3F02341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C3468-6920-4D36-A245-4D19A549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663F4-14F2-4BDA-817A-95B6042A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A25E0-061A-4C47-9419-83A3BEA5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D2909-8120-4348-8E5B-FFEBC3DA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54734-1F91-431D-9F49-2A44080B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38322-AA80-49D0-ABAF-A169A1E8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BD0B-D7DC-4CE6-8B33-FDC543A8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087-454F-42F1-9345-24DB79A1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442F1-E785-4E2E-AD1A-A8AD621A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0A605-56CB-44D0-9E66-49795AD1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579B1-5896-4467-9FCD-7068F7F8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E27C0-EEAB-4651-BD46-9EA57307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3C2FA-3C93-4753-8FD3-7991A306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28C04-C274-4E64-ADA9-59F24D4D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9204B-AFD0-407A-AF6A-0D2A680D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91D60-B4FE-44D2-89FB-AF9B415B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E6D4F-F18D-4ECD-89A4-74C522E7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778FD-AE6A-416A-ACCD-D4FE722E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8C0-20F5-490D-A55C-F244381D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3F87-7C8A-4967-8C11-2363463C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9D908-1395-43AD-BE4C-19420240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130D0-B8C0-40F7-8D15-83B81AB2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26EAF-64A2-4828-AA6C-A4D29925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86857-0B03-4BAE-8F5B-F164A822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BAAD3-8E61-47E6-AA06-8BC3E7C7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8935-1505-4096-877E-7D00AE21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BF421-44FC-4159-A220-27FDA60B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C805-1ACB-4340-8E6C-5536CEEF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D3DAE-8AA6-4C8F-9F2C-5DB4011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5FF-91E6-453A-948E-4DC82DC1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B0C78-D432-47FD-8104-ABD19984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8FDF6-B2F7-4B5B-8FEF-BC33D08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07A5B-2C76-49EE-87D1-E5FA3F18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6743A-2DDD-4C61-B902-D9C08029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9607B-ADC5-434F-8CB2-FDE2372C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4549A-738C-4FEA-A696-1A73DE91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DAD25-FBFE-409E-927D-AB8F0B8F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FE340-A960-4BFA-844B-36289013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72246-3116-4DF2-AD20-4AF9228E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68FD3-000E-4183-A217-878E2930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548-06D7-4E7D-BA08-EBDC4D51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66035-0DF1-4BC9-B11F-E0D038A4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5DFB6-EA0A-495B-AA68-59ED973A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F633C-9D32-4869-99D9-21E5EF3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B6873-1265-4659-85A6-FDECFCAB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67477-0568-4881-AF8E-B538EF28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4FDD3-F06D-46EE-AC67-81AB65FC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34B58-91BA-46A1-A6F9-AAFE5508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F14DD-5203-4815-A929-8F89705A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D5416-04E5-4477-A43D-6B710C51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A4590-71D2-41D5-8B56-CE2BFAC4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4598-4778-4FC5-9BE5-E3FAD60D57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2281-0F8C-4087-BC24-97E1F890C4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491F-09BC-45E7-B6D5-A2BB4DC8C4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A411-540C-45A8-A111-C40724F61B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E614-7E69-4231-A2C9-C46B74268D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6F22-3EC5-42F7-ACAA-A243C63B77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F541-473E-4071-B7AD-BDC5B271975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B3F4-AFD6-4270-A353-866D0DF736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50E5-37C3-4704-9560-3EA1BECBE1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468360" y="1989000"/>
            <a:ext cx="813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egoe Print"/>
              </a:rPr>
              <a:t>Микроби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egoe Print"/>
              </a:rPr>
              <a:t>Деловая 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620280"/>
            <a:ext cx="86868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з проглоченных яиц в ……. человека, выходят личинки, которые проникают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….. систему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 И с током крови через правую …………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легкие. Здесь личинки, разрывая капилляры, оказываются в просвете …..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. Попадая через бронхи вновь в ….., они заглатываются со слюной и в кишечнике, спустя ……, превращаются во взрослых аскарид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. Аскариды являются возбудителем ……….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0.При легочной стадии аскаридоза, у больных появляется ………………………………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686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836640"/>
            <a:ext cx="868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1. При кишечной стадии, когда аскариды паразитируют уже в кишечнике, снижается ….., отмечается ……………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ольных беспокоят ………, плохой сон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2. Аскариды могут стать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чиной ……… кишечника, иногда могут заползать в …….., что может привести к летальному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3. Острица-  небольшая нематода … цвета, длиной … см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4. Хвостовой конец тела у самок ... У самцов хвостовой конец…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5. Острицы обитают в … тонкого кишечника и в толстом   кишечнике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6. Передним концом они прикрепляются к стенке ... Зрелые самки выползают через задний проход …, на … складках откладывают яйца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7. Яйца остриц при расчесывании попадают под …, затем на игрушки, заносятся в ... В кишечнике из яиц выходят … и развиваются во взрослую стадию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06360"/>
            <a:ext cx="8686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веты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Кишках; раздельнополая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20-40 см;   15-25 см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изогнут в виде крючка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00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вы; рот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кишечнике; венозную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половинку сердца; альвеол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глотку; 2,5-3 месяца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аскаридоза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3661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0. кашель, боль в груди, повышение температуры тела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1. аппетит; тошнота, боли в животе, неустойчивый стул;  головные боли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2. непроходимости ;в дыхательные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3.острица белого цвета, длиной 0, 5-1  см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4. заострен; закручен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5.в  нижнем отделе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6. ночь; на перианальных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7. под ногти, в рот; личинки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0" y="11430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7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ласс трематоды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17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В тексте найти ошибки , пропуски: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Тело описторха  грушевидное, длиной до 3 см.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В передней части тела имеются присоски, в задней - три крупных четырех – и пятилопастных семенника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Описторхоз - это одно из самых серьезных заболеваний человека, связанное с употреблением  неправильно обработанной рыбы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Поражает  желудок, легкие, желчный пузырь и желчевыводящие пути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Яйца гельминта, выделяемые с фекалиями, при попадании в воду заглатываются моллюсками, в теле которых развиваются  личинки….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071720"/>
            <a:ext cx="8686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 Развитие их продолжается менее 6ти месяцев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 Затем церкарии выходят в воду, активно проникают в тело….. рыб, где в мышцах превращаются в метацеркарии, покрытые оболочкой.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.Человек заражается при употреблении в пищу….. рыбы.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.В кишечнике человека личинки освобождаются от оболочек, проникают желудок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0. Через месяц паразиты достигают половой зрелости и начинают выделять…. В организме человека кошачий(сибирский) сосальщик может паразитировать много лет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1. Острая фаза описторхоза характеризуется:….. увеличением количества лейкоцитов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1897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21384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веты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1.до 1 см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2.ДВЕ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3. коварных паразитарных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4. поджелудочную железу, печень, желчный пузырь и желчевыводящие пути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5. церкарии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6. 2х месяцев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7. карповых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8.малосольной, подвергнутой недостаточной термической обработке или сырой (строганина)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9. в печень, желчный пузырь и поджелудочную железу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10. яйца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11. повышением температуры тела, 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болями в мышцах и суставах, рвотой, поносом, болезненностью и     увеличением печени,  аллергическими высыпаниями на коже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45" name="Содержимое 3" descr=""/>
          <p:cNvPicPr/>
          <p:nvPr/>
        </p:nvPicPr>
        <p:blipFill>
          <a:blip r:embed="rId2"/>
          <a:stretch/>
        </p:blipFill>
        <p:spPr>
          <a:xfrm>
            <a:off x="1285920" y="1500120"/>
            <a:ext cx="728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-18108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50920" y="260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Print"/>
              </a:rPr>
              <a:t>Задание перв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1000080" y="12168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лан ответа по теме «Введение в паразитологию» и рассказать по пла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12" descr="https://st3.depositphotos.com/1548395/13304/i/1600/depositphotos_133041932-stock-photo-cartoon-illustration-of-human-parasites.jpg"/>
          <p:cNvPicPr/>
          <p:nvPr/>
        </p:nvPicPr>
        <p:blipFill>
          <a:blip r:embed="rId1"/>
          <a:stretch/>
        </p:blipFill>
        <p:spPr>
          <a:xfrm>
            <a:off x="2706840" y="2419200"/>
            <a:ext cx="380340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Print"/>
              </a:rPr>
              <a:t>Задание втор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5214960" y="6500880"/>
            <a:ext cx="3357720" cy="1429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285840" y="129240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«коварная» муха является переносчиком   простейш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рисунков и схем охарактеризовать данное простейшее, используя лекцион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1" descr="http://www.tepid.ru/images/tsetse-1.jpg"/>
          <p:cNvPicPr/>
          <p:nvPr/>
        </p:nvPicPr>
        <p:blipFill>
          <a:blip r:embed="rId1"/>
          <a:stretch/>
        </p:blipFill>
        <p:spPr>
          <a:xfrm>
            <a:off x="928800" y="30002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https://odna-doma.ru/public/8433324d.jpg"/>
          <p:cNvPicPr/>
          <p:nvPr/>
        </p:nvPicPr>
        <p:blipFill>
          <a:blip r:embed="rId2"/>
          <a:stretch/>
        </p:blipFill>
        <p:spPr>
          <a:xfrm>
            <a:off x="4071960" y="3000240"/>
            <a:ext cx="4786200" cy="29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57120" y="28584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Print"/>
              </a:rPr>
              <a:t>Задание трет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571680" y="9288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остейшее изображено на рисунке? Дать характерис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7" descr="https://www.friendship.com.ru/kaledoskop/i/13.jpg"/>
          <p:cNvPicPr/>
          <p:nvPr/>
        </p:nvPicPr>
        <p:blipFill>
          <a:blip r:embed="rId1"/>
          <a:srcRect l="0" t="0" r="355" b="14173"/>
          <a:stretch/>
        </p:blipFill>
        <p:spPr>
          <a:xfrm>
            <a:off x="1285920" y="2071800"/>
            <a:ext cx="57862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2857320"/>
            <a:ext cx="8686800" cy="32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помощью существительных, прилагательных и глаголов  дать характеристику простейшим трихомонадам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ротовая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ишечная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  мочеполовая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сущ-е)       (прилаг-е)           ( глагол)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4" name="Рисунок 10" descr="https://econet.ru/uploads/pictures/315446/content_trihomonada_1__econet_ru.jpg"/>
          <p:cNvPicPr/>
          <p:nvPr/>
        </p:nvPicPr>
        <p:blipFill>
          <a:blip r:embed="rId2"/>
          <a:srcRect l="48258" t="1801" r="2024" b="9354"/>
          <a:stretch/>
        </p:blipFill>
        <p:spPr>
          <a:xfrm>
            <a:off x="3143160" y="1143000"/>
            <a:ext cx="360072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08080" y="781200"/>
            <a:ext cx="8697960" cy="10540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" descr="http://oglistah.ru/wp-content/uploads/2016/09/prostejshie-paraziti_2.jpg"/>
          <p:cNvPicPr/>
          <p:nvPr/>
        </p:nvPicPr>
        <p:blipFill>
          <a:blip r:embed="rId2"/>
          <a:srcRect l="0" t="0" r="0" b="18742"/>
          <a:stretch/>
        </p:blipFill>
        <p:spPr>
          <a:xfrm>
            <a:off x="1428840" y="2786040"/>
            <a:ext cx="5929200" cy="407196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5"/>
          <p:cNvSpPr/>
          <p:nvPr/>
        </p:nvSpPr>
        <p:spPr>
          <a:xfrm>
            <a:off x="1071720" y="200016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ображен на рисунке, дать характерист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53964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Print"/>
              </a:rPr>
              <a:t>Задание шест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rcRect l="0" t="0" r="28647" b="0"/>
          <a:stretch/>
        </p:blipFill>
        <p:spPr>
          <a:xfrm>
            <a:off x="5286240" y="3286080"/>
            <a:ext cx="2643480" cy="2870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571680" y="3143160"/>
            <a:ext cx="3665520" cy="307188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1714680" y="1500120"/>
            <a:ext cx="44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ьминты(класс цесто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россворд и сочинить  стихотвор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298440" y="304920"/>
            <a:ext cx="8699400" cy="29145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04920" y="2143080"/>
            <a:ext cx="86868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25" name="Picture 4" descr="C:\Users\qweq\Desktop\Мебель\Кроватки\slide_7.jpg"/>
          <p:cNvPicPr/>
          <p:nvPr/>
        </p:nvPicPr>
        <p:blipFill>
          <a:blip r:embed="rId2"/>
          <a:srcRect l="0" t="0" r="44376" b="13751"/>
          <a:stretch/>
        </p:blipFill>
        <p:spPr>
          <a:xfrm>
            <a:off x="2643120" y="2786040"/>
            <a:ext cx="3714840" cy="364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98440" y="414360"/>
            <a:ext cx="8699400" cy="11286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Аскарида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разитирует во взрослой стадии в тонких …..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упная …….нематода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Длина самок аскарид - …..см, самцов - …..см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Хвостовой конец самца …………………. 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Одна самка в сутки выделяет до …..тысяч яиц, которые с испражнениями человека попадают  в ….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Из ….. яйца, содержащие зрелую личинку,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гут попасть на овощи, ягоды, с которыми они заносятся в ….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04:25:07Z</dcterms:created>
  <dc:creator>мму</dc:creator>
  <dc:description/>
  <dc:language>en-US</dc:language>
  <cp:lastModifiedBy>qweq</cp:lastModifiedBy>
  <dcterms:modified xsi:type="dcterms:W3CDTF">2020-04-22T17:55:21Z</dcterms:modified>
  <cp:revision>88</cp:revision>
  <dc:subject/>
  <dc:title>Слайд 1</dc:title>
</cp:coreProperties>
</file>